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7B6-39E2-4960-B986-F393A6B5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5D9-C04B-4E25-9A66-4E0EC512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551-0D68-4F33-B203-CBFCB8FB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667-A41C-478B-952B-BBEC8F9D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9A16F-7F67-4C4B-8F34-8F289A74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B72BA-C25C-4103-A558-D0E25FF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DCE23-E126-4A89-B22E-5E2B3D65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31BFC-19A3-4484-868B-F71D5434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5328A-5A7E-4DF7-B3E4-976304C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CA2F-6F97-423C-B1C7-B287BBBC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23DE-F43E-4191-A9F2-0CFBC57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075-D4DE-4621-8B30-56306E7B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2FBA7-80D9-419C-8214-5219AEE4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75120-3005-476A-900E-52764A6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3EEA-6FC3-4B0D-AF44-E18259D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B1D76-0A54-4759-B272-A0E91C6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1C77-B4C4-4033-BC9D-7122CBAE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1D7-0E62-4BA6-A02B-6F965AA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407-041E-4348-8144-36FF9933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BAD-8881-49C9-B586-3F6FF83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654-DACE-46FC-9F58-1CC98052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11D-3E73-44EB-9166-13B39113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F4B-4B6F-40EC-BFD9-A8522A3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1F5-AC6C-4AB7-90A0-4022EA6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CBD8-1E05-4C0A-9F4B-0BA34512F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2632-EDDF-4889-9E1F-DB0D6CA1E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free-extras.com/images/pizza-894.htm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s Comidia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Filip Coo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Desayun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e el desayun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71432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3640" y="437508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324480" y="45720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800600" y="457200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438280" y="2438280"/>
            <a:ext cx="194328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343400" y="2438280"/>
            <a:ext cx="2009880" cy="182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324480" y="2438280"/>
            <a:ext cx="188604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419076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nqueques con pedacito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tts_flash"/>
          <p:cNvGraphicFramePr/>
          <p:nvPr/>
        </p:nvGraphicFramePr>
        <p:xfrm>
          <a:off x="3228840" y="3246480"/>
          <a:ext cx="206640" cy="20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6" name="tts_flash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28840" y="3246480"/>
                    <a:ext cx="206640" cy="206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514600" y="4266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stadas de canela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4129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 rosquill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266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za de fr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85600" y="6171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go de naran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6216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colate con le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Almuerz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5146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00600" y="2514600"/>
            <a:ext cx="20574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858000" y="2514600"/>
            <a:ext cx="19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086600" y="5029200"/>
            <a:ext cx="148428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451116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mburgues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7235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z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51160" y="46476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ro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16840" y="46476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ub itali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90000" y="64904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c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la cena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029200" y="2666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934320" y="26668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457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le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0280" y="4571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sh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30360" y="4571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tel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83080" y="45712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llo mars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86600" y="5105520"/>
            <a:ext cx="190512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91520" y="618660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ina co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ost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postre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19360" y="457128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ran muralla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443412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rta de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29000" y="4876920"/>
            <a:ext cx="285768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3960" y="632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f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4:48Z</dcterms:created>
  <dc:creator>cooperfil</dc:creator>
  <dc:description/>
  <dc:language>en-US</dc:language>
  <cp:lastModifiedBy>cooperfil</cp:lastModifiedBy>
  <dcterms:modified xsi:type="dcterms:W3CDTF">2011-04-14T18:12:29Z</dcterms:modified>
  <cp:revision>6</cp:revision>
  <dc:subject/>
  <dc:title>Las Comidias </dc:title>
</cp:coreProperties>
</file>